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5920" y="1917360"/>
            <a:ext cx="1097280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15920" y="5016600"/>
            <a:ext cx="109728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1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2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3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4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5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6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" name=""/>
          <p:cNvSpPr/>
          <p:nvPr/>
        </p:nvSpPr>
        <p:spPr>
          <a:xfrm>
            <a:off x="1003320" y="4879800"/>
            <a:ext cx="11010960" cy="0"/>
          </a:xfrm>
          <a:prstGeom prst="line">
            <a:avLst/>
          </a:prstGeom>
          <a:ln w="1260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727272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70080" y="276840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544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8697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18548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5012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8165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marL="648360" indent="-4269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1017000" indent="-42660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386000" indent="-4269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755000" indent="-4269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2123640" indent="-42660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2123640" indent="-42660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2123640" indent="-42660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70080" y="276840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544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8697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18548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5012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8165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5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0000"/>
          </a:bodyPr>
          <a:p>
            <a:pPr marL="468720" indent="-30852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735120" indent="-3081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001880" indent="-30852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268640" indent="-30852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535040" indent="-3081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535040" indent="-30816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535040" indent="-30816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674280" indent="-46368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1" marL="1025640" indent="-46368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377000" indent="-46404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3" marL="1728000" indent="-46404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4" marL="2079000" indent="-46368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5" marL="2079000" indent="-463680">
              <a:spcBef>
                <a:spcPts val="2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6" marL="2079000" indent="-463680">
              <a:spcBef>
                <a:spcPts val="2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9156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1" marL="105156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41192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3" marL="177192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4" marL="213156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5" marL="2131560" indent="-475560">
              <a:spcBef>
                <a:spcPts val="5000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6" marL="2131560" indent="-475560">
              <a:spcBef>
                <a:spcPts val="5000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2844360"/>
            <a:ext cx="10464840" cy="406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1409760"/>
            <a:ext cx="5867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380520" y="4788000"/>
            <a:ext cx="5867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1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2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3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4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5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6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6489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6489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76240" y="-381240"/>
            <a:ext cx="1097280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Time &amp; Space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1996920" y="2451240"/>
            <a:ext cx="8721720" cy="56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Ablative of Separation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68680" indent="-56376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</a:rPr>
              <a:t>Ex: Spartacus wanted to run away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Marker Felt"/>
              </a:rPr>
              <a:t>from the gladiator school.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marL="868680" indent="-563760">
              <a:lnSpc>
                <a:spcPct val="100000"/>
              </a:lnSpc>
              <a:spcBef>
                <a:spcPts val="24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arker Felt"/>
              </a:rPr>
              <a:t>ab urbe</a:t>
            </a:r>
            <a:r>
              <a:rPr b="0" lang="en-US" sz="4000" spc="-1" strike="noStrike">
                <a:solidFill>
                  <a:srgbClr val="000000"/>
                </a:solidFill>
                <a:latin typeface="Marker Felt"/>
              </a:rPr>
              <a:t> venit-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marL="868680" indent="-563760">
              <a:lnSpc>
                <a:spcPct val="100000"/>
              </a:lnSpc>
              <a:spcBef>
                <a:spcPts val="24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arker Felt"/>
              </a:rPr>
              <a:t>e silvā</a:t>
            </a:r>
            <a:r>
              <a:rPr b="0" lang="en-US" sz="4000" spc="-1" strike="noStrike">
                <a:solidFill>
                  <a:srgbClr val="000000"/>
                </a:solidFill>
                <a:latin typeface="Marker Felt"/>
              </a:rPr>
              <a:t> cucurrit-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marL="868680" indent="-563760">
              <a:lnSpc>
                <a:spcPct val="100000"/>
              </a:lnSpc>
              <a:spcBef>
                <a:spcPts val="24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arker Felt"/>
              </a:rPr>
              <a:t>de monte</a:t>
            </a:r>
            <a:r>
              <a:rPr b="0" lang="en-US" sz="4000" spc="-1" strike="noStrike">
                <a:solidFill>
                  <a:srgbClr val="000000"/>
                </a:solidFill>
                <a:latin typeface="Marker Felt"/>
              </a:rPr>
              <a:t> descendit-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marL="868680" indent="-563760">
              <a:lnSpc>
                <a:spcPct val="100000"/>
              </a:lnSpc>
              <a:spcBef>
                <a:spcPts val="242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arker Felt"/>
              </a:rPr>
              <a:t>Romā</a:t>
            </a:r>
            <a:r>
              <a:rPr b="0" lang="en-US" sz="4000" spc="-1" strike="noStrike">
                <a:solidFill>
                  <a:srgbClr val="000000"/>
                </a:solidFill>
                <a:latin typeface="Marker Felt"/>
              </a:rPr>
              <a:t> discessit-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marL="868680" indent="-563760">
              <a:lnSpc>
                <a:spcPct val="100000"/>
              </a:lnSpc>
              <a:spcBef>
                <a:spcPts val="242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arker Felt"/>
              </a:rPr>
              <a:t>forō</a:t>
            </a:r>
            <a:r>
              <a:rPr b="0" lang="en-US" sz="4000" spc="-1" strike="noStrike">
                <a:solidFill>
                  <a:srgbClr val="000000"/>
                </a:solidFill>
                <a:latin typeface="Marker Felt"/>
              </a:rPr>
              <a:t> longe aberat- 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Ablative of Place Where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5040" indent="-5875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Marker Felt"/>
              </a:rPr>
              <a:t>We usually use </a:t>
            </a:r>
            <a:r>
              <a:rPr b="1" lang="en-US" sz="4600" spc="-1" strike="noStrike" u="sng">
                <a:solidFill>
                  <a:srgbClr val="000000"/>
                </a:solidFill>
                <a:uFillTx/>
                <a:latin typeface="Marker Felt"/>
              </a:rPr>
              <a:t>at/in/on</a:t>
            </a:r>
            <a:r>
              <a:rPr b="0" lang="en-US" sz="4600" spc="-1" strike="noStrike">
                <a:solidFill>
                  <a:srgbClr val="000000"/>
                </a:solidFill>
                <a:latin typeface="Marker Felt"/>
              </a:rPr>
              <a:t> in English: Spartacus fought </a:t>
            </a:r>
            <a:r>
              <a:rPr b="1" lang="en-US" sz="4600" spc="-1" strike="noStrike" u="sng">
                <a:solidFill>
                  <a:srgbClr val="000000"/>
                </a:solidFill>
                <a:uFillTx/>
                <a:latin typeface="Marker Felt"/>
              </a:rPr>
              <a:t>in southern Italy</a:t>
            </a:r>
            <a:r>
              <a:rPr b="0" lang="en-US" sz="4600" spc="-1" strike="noStrike">
                <a:solidFill>
                  <a:srgbClr val="000000"/>
                </a:solidFill>
                <a:latin typeface="Marker Felt"/>
              </a:rPr>
              <a:t>.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marL="905040" indent="-5875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Marker Felt"/>
              </a:rPr>
              <a:t>in forō</a:t>
            </a:r>
            <a:r>
              <a:rPr b="0" lang="en-US" sz="4600" spc="-1" strike="noStrike">
                <a:solidFill>
                  <a:srgbClr val="000000"/>
                </a:solidFill>
                <a:latin typeface="Marker Felt"/>
              </a:rPr>
              <a:t> stabat-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marL="905040" indent="-5875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Marker Felt"/>
              </a:rPr>
              <a:t>sub arbore</a:t>
            </a:r>
            <a:r>
              <a:rPr b="0" lang="en-US" sz="4600" spc="-1" strike="noStrike">
                <a:solidFill>
                  <a:srgbClr val="000000"/>
                </a:solidFill>
                <a:latin typeface="Marker Felt"/>
              </a:rPr>
              <a:t> dormiebat-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marL="905040" indent="-5875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Marker Felt"/>
              </a:rPr>
              <a:t>terrā marique</a:t>
            </a:r>
            <a:r>
              <a:rPr b="0" lang="en-US" sz="4600" spc="-1" strike="noStrike">
                <a:solidFill>
                  <a:srgbClr val="000000"/>
                </a:solidFill>
                <a:latin typeface="Marker Felt"/>
              </a:rPr>
              <a:t> pugnabant-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Ablative of Time When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5040" indent="-5875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Marker Felt"/>
              </a:rPr>
              <a:t>We also use </a:t>
            </a:r>
            <a:r>
              <a:rPr b="1" lang="en-US" sz="4600" spc="-1" strike="noStrike" u="sng">
                <a:solidFill>
                  <a:srgbClr val="000000"/>
                </a:solidFill>
                <a:uFillTx/>
                <a:latin typeface="Marker Felt"/>
              </a:rPr>
              <a:t>at/in/within</a:t>
            </a:r>
            <a:r>
              <a:rPr b="0" lang="en-US" sz="4600" spc="-1" strike="noStrike">
                <a:solidFill>
                  <a:srgbClr val="000000"/>
                </a:solidFill>
                <a:latin typeface="Marker Felt"/>
              </a:rPr>
              <a:t> to express the time when.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marL="905040" indent="-5875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Marker Felt"/>
              </a:rPr>
              <a:t>primā luce</a:t>
            </a:r>
            <a:r>
              <a:rPr b="0" lang="en-US" sz="4600" spc="-1" strike="noStrike">
                <a:solidFill>
                  <a:srgbClr val="000000"/>
                </a:solidFill>
                <a:latin typeface="Marker Felt"/>
              </a:rPr>
              <a:t> discesserunt-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marL="905040" indent="-5875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Marker Felt"/>
              </a:rPr>
              <a:t>tertiō die</a:t>
            </a:r>
            <a:r>
              <a:rPr b="0" lang="en-US" sz="4600" spc="-1" strike="noStrike">
                <a:solidFill>
                  <a:srgbClr val="000000"/>
                </a:solidFill>
                <a:latin typeface="Marker Felt"/>
              </a:rPr>
              <a:t> redierunt-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marL="905040" indent="-5875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Marker Felt"/>
              </a:rPr>
              <a:t>tribus annis</a:t>
            </a:r>
            <a:r>
              <a:rPr b="0" lang="en-US" sz="4600" spc="-1" strike="noStrike">
                <a:solidFill>
                  <a:srgbClr val="000000"/>
                </a:solidFill>
                <a:latin typeface="Marker Felt"/>
              </a:rPr>
              <a:t> Spartacus mortuus est.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Don’t forget the tricky expressions!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5040" indent="-5875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Marker Felt"/>
              </a:rPr>
              <a:t>paucis post diebus-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marL="905040" indent="-5875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Marker Felt"/>
              </a:rPr>
              <a:t>multis post annis-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marL="905040" indent="-5875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Marker Felt"/>
              </a:rPr>
              <a:t>cotidie-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